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bomb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0DC-2E3C-4F20-B430-A1B8A948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11D-E870-48A9-B362-ECF8568D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F9D-EE13-4058-A9D2-41ED6BED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D13-D86F-4D1E-88BE-EAB70FF7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BA6D-3DCF-44C0-9FC4-166885CE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69D8-6508-400D-8362-75B12C4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E07A-0398-4E5B-862E-61BDD959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8AAB-67DF-472C-8948-C776A7C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C9A7-4606-4CD1-96B4-CA77EF3C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D0E4-DE5C-492E-A6EF-8D60DFE5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82D2-4247-4BEC-97BB-FC04E64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EFA-89D8-4046-833E-FA7595B2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F0F0-D480-44C6-878D-B7C4DEE5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9898-87E7-438E-8ACE-942CFDBA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AA22-D02A-43C0-AAE3-8836425B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9114-F2B7-46E2-A998-508300F6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B231-8E44-43EB-83E6-EBBE4B30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E66F-2F89-4790-AF42-8C04D54D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3A3-8A1F-4550-8847-BC9F3893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8AC-3009-4EBA-B7F5-586AE0E0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02A-D640-42E2-ABA0-B2C5827F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7EA-6990-4005-B094-AFF1410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57D-5015-479C-B3A5-A6CA1CA1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9BF-0C88-436E-8CF5-8334B2E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CB17-C2F9-4301-8BEF-BBBE198ED36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7D7-5D6B-4C01-9966-FC7EA544ADF4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cc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AE4-7CB7-4DBA-94C5-5F8611F4EE47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efefe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093080" y="407520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مهارات الأسا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6165720"/>
            <a:ext cx="1584360" cy="621000"/>
          </a:xfrm>
          <a:custGeom>
            <a:avLst/>
            <a:gdLst>
              <a:gd name="textAreaLeft" fmla="*/ 39960 w 1584360"/>
              <a:gd name="textAreaRight" fmla="*/ 1544400 w 158436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55089" h="21600">
                <a:moveTo>
                  <a:pt x="0" y="0"/>
                </a:moveTo>
                <a:lnTo>
                  <a:pt x="55089" y="0"/>
                </a:lnTo>
                <a:lnTo>
                  <a:pt x="55089" y="21600"/>
                </a:lnTo>
                <a:lnTo>
                  <a:pt x="0" y="21600"/>
                </a:lnTo>
                <a:close/>
              </a:path>
              <a:path fill="lightenLess" w="55089" h="21600">
                <a:moveTo>
                  <a:pt x="0" y="0"/>
                </a:moveTo>
                <a:lnTo>
                  <a:pt x="55089" y="0"/>
                </a:lnTo>
                <a:lnTo>
                  <a:pt x="53689" y="1400"/>
                </a:lnTo>
                <a:lnTo>
                  <a:pt x="1400" y="1400"/>
                </a:lnTo>
                <a:close/>
              </a:path>
              <a:path fill="darken" w="55089" h="21600">
                <a:moveTo>
                  <a:pt x="55089" y="0"/>
                </a:moveTo>
                <a:lnTo>
                  <a:pt x="55089" y="21600"/>
                </a:lnTo>
                <a:lnTo>
                  <a:pt x="53689" y="20200"/>
                </a:lnTo>
                <a:lnTo>
                  <a:pt x="53689" y="1400"/>
                </a:lnTo>
                <a:close/>
              </a:path>
              <a:path fill="darkenLess" w="55089" h="21600">
                <a:moveTo>
                  <a:pt x="55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89" y="20200"/>
                </a:lnTo>
                <a:close/>
              </a:path>
              <a:path fill="lighten" w="55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089" h="21600">
                <a:moveTo>
                  <a:pt x="20538" y="3794"/>
                </a:moveTo>
                <a:lnTo>
                  <a:pt x="34551" y="10800"/>
                </a:lnTo>
                <a:lnTo>
                  <a:pt x="2053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تخاذ القر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ل المشك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فكير الناق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11280" y="4148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ويل التركي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قوي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F1D-80A4-4F9D-8461-342ADD38CE48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1480" y="907920"/>
            <a:ext cx="75996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-2368800" y="3240000"/>
            <a:ext cx="4697280" cy="10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مهارات الأساس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                            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1480" y="6418440"/>
            <a:ext cx="79041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1413000"/>
            <a:ext cx="7904160" cy="500544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0E7-CF19-48DC-9437-0E539728C6A4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ff"/>
            </a:gs>
            <a:gs pos="100000">
              <a:srgbClr val="ff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836640"/>
            <a:ext cx="741672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2024640" y="3401280"/>
            <a:ext cx="469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حويل التركيب التقوي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6418440"/>
            <a:ext cx="77212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78204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341360"/>
            <a:ext cx="7721280" cy="50418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BA3F-9856-4DA3-9F0F-6B34F5424524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a13a"/>
            </a:gs>
            <a:gs pos="50000">
              <a:srgbClr val="ffffcc"/>
            </a:gs>
            <a:gs pos="100000">
              <a:srgbClr val="c6a1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907920"/>
            <a:ext cx="69850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431440" y="3447360"/>
            <a:ext cx="54374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حل المشكلات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376280"/>
            <a:ext cx="7848720" cy="504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C3C-B6E6-40E8-BF6F-C6F51B375E16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999ff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836640"/>
            <a:ext cx="806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-2025720" y="3473280"/>
            <a:ext cx="4697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فكير الناقد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6418440"/>
            <a:ext cx="80643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685332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341360"/>
            <a:ext cx="8064360" cy="504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الط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ناقض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1413000"/>
            <a:ext cx="100800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ميز افتراض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ى غ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ساس مغالط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1413000"/>
            <a:ext cx="129708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زاء الحو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تيج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سبا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413000"/>
            <a:ext cx="122400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دعاء الحقيق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/ القي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 / لي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413000"/>
            <a:ext cx="115236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ل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وار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م ع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وة الح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615-B079-47B4-99E0-1653FE0DA068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3640" y="907920"/>
            <a:ext cx="750744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-2097000" y="3473640"/>
            <a:ext cx="46972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تخاذالقرار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1413000"/>
            <a:ext cx="7723440" cy="49687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ديد الهدف            تحديد الهدف                   تحديد الهد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لتعرف على البدائل    التعرف على البدائل          اكتشاف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ليل البدائل            تحليل البدائل                  تحليل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رتيب البدائل           ترتيب البدائل     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قويم البدائل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546-3BC9-4E2D-AFA1-9CBCAB01DAA4}" type="slidenum">
              <a:t>7</a:t>
            </a:fld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1:58:30Z</dcterms:created>
  <dc:creator/>
  <dc:description>
</dc:description>
  <dc:language>en-US</dc:language>
  <cp:lastModifiedBy>abwaad</cp:lastModifiedBy>
  <dcterms:modified xsi:type="dcterms:W3CDTF">2002-12-25T08:11:02Z</dcterms:modified>
  <cp:revision>556</cp:revision>
  <dc:subject/>
  <dc:title>عرض مشروع المدرسة الرائدة</dc:title>
</cp:coreProperties>
</file>